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ct" ContentType="image/x-pict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1D6-1224-4F25-8308-F3615B29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EA2D-14F7-4547-BD5F-24BD7738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9EC5-774A-49B0-8CCB-46374958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6CB-8E75-4118-8236-443C4F08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D2AE-38C3-4BFC-8D2A-DD1F4659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0DDB-E63F-455F-93A4-E0FDE231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D74E-B687-4FAD-9085-22DDDBCF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4001-F194-4A39-AF47-D446A9A2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DCCF-3BEB-4F58-B8D1-7E6BB1F9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DD2C-6C77-4191-9ABA-22EE3BB2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1306-367E-4F33-A411-FCD60DF2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62D-AA83-43E0-B0A8-3EB0AB54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7EBB-E276-4E95-95CC-C015A359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6E7C-938C-4F7E-87A6-D3D52DB5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0D7B-1631-4D63-B0A2-DF76F661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0FDD-209D-406F-90B8-CDDA8EEA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011F-35E1-4A40-8EFA-93F7295C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F2379-967B-4915-ABDE-A563BC7C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CFE82-445F-4ED1-9060-80D8E2D1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75C95-3EDC-4311-A2B6-6956164C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1F178-9722-4DFF-B670-81848AFC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19517-D9D9-4618-9D9B-B03F266C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BF9-C266-4FD5-8DB8-4E41BCC1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44B6CA-B654-4CC8-BC79-5E46952D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596AA-17A6-4684-B33D-67B13DFC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02442-08E3-4004-B1CF-967B486D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92A88-962C-45CA-95D1-383F24B4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874C8-C5EC-42F8-9224-E6FB1B3D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53151-9E15-4D5B-99D8-2E486EE3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1EC96-F77C-4D8A-B087-1D163E86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8EDF3-5AB7-4664-B1A0-433EE2DE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1845E-96D5-4E68-974A-95D88EB4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75058-4DC5-46E0-B1DE-BB546292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E361-B203-41AE-B49D-0A7AFCE6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CAC15-49B9-4416-8133-095304A8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69A74-19BA-4B7D-95D4-F0E1125F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22361-B29A-4BB1-9C2E-A5FC5635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596B8-F60B-4ABA-A3AD-0917C6C9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BB9FA-B5C3-49C8-AA69-B825408E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A57C6-7ABA-4426-84DD-F13986BB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41C93-35EA-4E20-AC02-8894525F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DFB16-95FD-4B61-AE76-64A7E2DE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81746-387B-4982-BAFB-57A4F517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AF1B2-9852-421C-93AD-3F406571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C5B-27F8-472A-B2F1-BAF178FA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5733E-B423-4A31-AB1F-B8AB5ACB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CA63FA-DFD3-4758-84F3-129F2212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30D6E-3288-4369-9BF7-83D4F1CD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08AAF0-A520-4A4D-AE23-D872F1FA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40C57A-100C-4C7C-BBF5-A97EDE66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E4DAC7-16CA-4968-9AE0-6FCF70B7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C1808C-AC0D-4ADF-8C20-E0AE6571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17375A-FC23-49C0-85BD-5660E45E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736942-AD97-42F8-A552-A48A9797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8D88E6-D0F5-4782-AA00-CFAA65C3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1CA-AE9D-4EA9-A920-23F853EA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615E8E-A6FC-4503-8857-C9137B6F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F5F2E0-A226-4D4D-93DC-976CB78F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3611D2-06E0-465D-9EF2-D74187D2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62EE9B-BE7A-4B22-9592-8478B064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47884-7CB4-4040-821D-B5BD25EF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760CE2-2BF4-4232-92F8-05C4EB0F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C86D89-E4AD-491A-986C-E8B0ABD1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AC3253-FBC9-46C5-A949-2B5D9CFF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86068A-024F-42C0-9AC7-479B56CB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97491E-EBAB-40AA-9B4A-1F9C012F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EC3-2A43-4E39-A142-E9345E11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213D9-A119-4D7D-B690-FB57AD5D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C680C5-FE4C-4F6D-AF68-31210CC2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A7BF4F-67BC-4BCE-9C1F-902548DB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22B0B0-F42F-4781-BB4B-08277E43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A7AC3B-5FFE-4605-A947-A4E84023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1AD80E-9476-424F-8578-2CA76B20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100F9-0F83-4985-A19E-F97B997C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B5E3BE-F53B-4C0B-8891-20B164B8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74A6A9-E13E-45B5-AA0D-EA848164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5E067A-A4C9-4579-BEAE-38A33388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3E1D-6DC2-48B2-939F-E04BCC2A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C94D4F-D7D6-43D2-996F-18833127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43CF4E-6790-445E-B8B0-F8B7946B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76F22C-0BA3-4D71-B7A4-B397E157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C8EE27-ABA3-4A77-894E-57131DD2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75BBED-E5CF-4D31-BD45-445AD120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F43-7C79-41DF-9D25-C118AE3E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DC80-B0E2-4015-B726-2897ED1A493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7860-62FA-46BA-93FA-6740F2DBF0F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E25B-AC32-4D9F-AE70-7524F8C17F4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2956-16B8-4DBC-AE72-3F487F23E05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CB77-ECDB-4F7B-B0C1-74DAD18F0F3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3A04-0646-4E1D-8A2F-F4B68F8C6EE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1231-5C88-45EA-9253-C83C4F95056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eb.me.com/webphysics/physlets/html/plane%20mirror.html" TargetMode="External"/><Relationship Id="rId2" Type="http://schemas.openxmlformats.org/officeDocument/2006/relationships/hyperlink" Target="http://web.me.com/webphysics/physlets/html/plane%20mirror.html" TargetMode="External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THE LAW OF REFL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AN THE STUDENT SEE THE IMAGE OF THE POLE IN THE MIRRO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3733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is NOT possible for the investigator to see the image of the po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light cannot come from the pole, reflect off of the mirror, and reach the student’s ey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ray would not obey the Law of Reflection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3490920" cy="2819520"/>
          </a:xfrm>
          <a:prstGeom prst="rect">
            <a:avLst/>
          </a:prstGeom>
          <a:ln w="0">
            <a:noFill/>
          </a:ln>
        </p:spPr>
      </p:pic>
      <p:cxnSp>
        <p:nvCxnSpPr>
          <p:cNvPr id="377" name="Straight Arrow Connector 5"/>
          <p:cNvCxnSpPr/>
          <p:nvPr/>
        </p:nvCxnSpPr>
        <p:spPr>
          <a:xfrm flipH="1" flipV="1">
            <a:off x="6323760" y="2819160"/>
            <a:ext cx="381960" cy="3052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8" name="Straight Arrow Connector 7"/>
          <p:cNvCxnSpPr/>
          <p:nvPr/>
        </p:nvCxnSpPr>
        <p:spPr>
          <a:xfrm>
            <a:off x="6324480" y="2819160"/>
            <a:ext cx="915120" cy="610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O MIRRORS REVERSE EVERYTHING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form a few tests to see what is reversed in a mirror image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did you find ou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O YOU KNOW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600200"/>
            <a:ext cx="3581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you are 6 ft tall, what is the smallest mirror that you would be able to see yourself in full length view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es it matter how far you stand from the mirro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4324320" y="16765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O YOU KNOW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600200"/>
            <a:ext cx="3581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minimum size of the mirror is half the person’s height, or 3 f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-2646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light ray must be able to travel from the feet to the mirror, then be reflected to the person’s eye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-2646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is ray would hit the mirror halfway between the eyes and feet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1681200" cy="21430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5"/>
          <p:cNvSpPr/>
          <p:nvPr/>
        </p:nvSpPr>
        <p:spPr>
          <a:xfrm>
            <a:off x="6553080" y="2438280"/>
            <a:ext cx="76320" cy="10670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Straight Arrow Connector 7"/>
          <p:cNvCxnSpPr>
            <a:endCxn id="387" idx="2"/>
          </p:cNvCxnSpPr>
          <p:nvPr/>
        </p:nvCxnSpPr>
        <p:spPr>
          <a:xfrm flipV="1">
            <a:off x="5181480" y="3504600"/>
            <a:ext cx="1410480" cy="686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9" name="Straight Arrow Connector 9"/>
          <p:cNvCxnSpPr>
            <a:stCxn id="387" idx="2"/>
          </p:cNvCxnSpPr>
          <p:nvPr/>
        </p:nvCxnSpPr>
        <p:spPr>
          <a:xfrm flipH="1" flipV="1">
            <a:off x="4952160" y="2818800"/>
            <a:ext cx="1639080" cy="686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0" name="Straight Arrow Connector 11"/>
          <p:cNvCxnSpPr/>
          <p:nvPr/>
        </p:nvCxnSpPr>
        <p:spPr>
          <a:xfrm flipH="1">
            <a:off x="6931800" y="3506400"/>
            <a:ext cx="3960" cy="762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  <p:sp>
        <p:nvSpPr>
          <p:cNvPr id="391" name="TextBox 12"/>
          <p:cNvSpPr/>
          <p:nvPr/>
        </p:nvSpPr>
        <p:spPr>
          <a:xfrm>
            <a:off x="7086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half person’s height above flo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O YOU KNOW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59984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es it matter how far you stand from the mirro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NO!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light ray still hits the mirror halfway between the eyes and feet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1681200" cy="21430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6553080" y="4038480"/>
            <a:ext cx="76320" cy="10670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Straight Arrow Connector 7"/>
          <p:cNvCxnSpPr>
            <a:endCxn id="395" idx="2"/>
          </p:cNvCxnSpPr>
          <p:nvPr/>
        </p:nvCxnSpPr>
        <p:spPr>
          <a:xfrm flipV="1">
            <a:off x="1676520" y="5105160"/>
            <a:ext cx="4915440" cy="8388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7" name="Straight Arrow Connector 9"/>
          <p:cNvCxnSpPr>
            <a:stCxn id="395" idx="2"/>
          </p:cNvCxnSpPr>
          <p:nvPr/>
        </p:nvCxnSpPr>
        <p:spPr>
          <a:xfrm flipH="1" flipV="1">
            <a:off x="1447200" y="4495320"/>
            <a:ext cx="5144040" cy="6105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8" name="Straight Arrow Connector 11"/>
          <p:cNvCxnSpPr/>
          <p:nvPr/>
        </p:nvCxnSpPr>
        <p:spPr>
          <a:xfrm flipH="1">
            <a:off x="6705360" y="5105520"/>
            <a:ext cx="2160" cy="762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  <p:sp>
        <p:nvSpPr>
          <p:cNvPr id="399" name="TextBox 12"/>
          <p:cNvSpPr/>
          <p:nvPr/>
        </p:nvSpPr>
        <p:spPr>
          <a:xfrm>
            <a:off x="6781680" y="457200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half person’s height above flo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BJECTIVES: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understand how an image is formed by a flat mirro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use ray diagrams to locate the image formed by a flat mirro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use correct terminology to classify images formed by flat mirro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O YOU KNOW?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you are 6 ft tall, what is the smallest mirror that you would be able to see yourself in full length view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fter this lesson, you should be able to explain the answer to this question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OCABULA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lane – fl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irtual Image – an image that is formed by light rays that do not converge to a point.  Our eyes see the image at the common point that the light rays appear to come fro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gle of incidence – the angle the incident light ray makes with the normal to the mirr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gle of reflection – the angle the reflected light ray makes with the normal to the mirr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LAW OF REFL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2590560"/>
            <a:ext cx="3657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Law of Reflection states that the angle of incidence is equal to the angle of reflectio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34653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NIM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Link to</a:t>
            </a: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 Physl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MAGES FORMED BY PLANE MIRRORS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e alway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Virtu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prigh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same size as the objec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AN THE STUDENT SEE THE IMAGE OF THE POLE IN THE MIRRO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600200"/>
            <a:ext cx="3733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 the pin and the mirror to test this sce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must be true about the position of the student and the pole for the student to be able to see the pol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349092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AN THE STUDENT SEE THE IMAGE OF THE POLE IN THE MIRROR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600200"/>
            <a:ext cx="3733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is possible for the investigator to see the image of the po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light can come from the pole, reflect off the mirror, and get to the investigator’s ey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light ray obeys the Law of Reflec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3490920" cy="2819520"/>
          </a:xfrm>
          <a:prstGeom prst="rect">
            <a:avLst/>
          </a:prstGeom>
          <a:ln w="0">
            <a:noFill/>
          </a:ln>
        </p:spPr>
      </p:pic>
      <p:cxnSp>
        <p:nvCxnSpPr>
          <p:cNvPr id="372" name="Straight Arrow Connector 5"/>
          <p:cNvCxnSpPr/>
          <p:nvPr/>
        </p:nvCxnSpPr>
        <p:spPr>
          <a:xfrm flipH="1" flipV="1">
            <a:off x="6019200" y="2742840"/>
            <a:ext cx="686520" cy="3816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3" name="Straight Arrow Connector 7"/>
          <p:cNvCxnSpPr/>
          <p:nvPr/>
        </p:nvCxnSpPr>
        <p:spPr>
          <a:xfrm flipH="1">
            <a:off x="5257080" y="2742120"/>
            <a:ext cx="762840" cy="610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23:22:55Z</dcterms:created>
  <dc:creator>Lori</dc:creator>
  <dc:description/>
  <dc:language>en-US</dc:language>
  <cp:lastModifiedBy>Lori Andersen</cp:lastModifiedBy>
  <dcterms:modified xsi:type="dcterms:W3CDTF">2009-10-18T16:36:02Z</dcterms:modified>
  <cp:revision>11</cp:revision>
  <dc:subject/>
  <dc:title>The Law of Reflection</dc:title>
</cp:coreProperties>
</file>